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51E-26F7-4124-B809-2F83306A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D98-48FE-42A0-AB4C-A6C7B4F2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2ED-D5D2-41B8-A6D8-5FD98B00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624-AF7C-4828-9D31-8D902702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A748-3957-4C74-988A-DD093C4B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8D6-7974-4178-A5B0-ADDD893F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C03-AF2C-47D8-8E23-35BCFE26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BD3-A702-49F3-8586-8155A446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07A-C483-4D3F-853B-B3FB83D4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D53-862C-4370-9E59-025FCA1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A4CE-554D-4BE2-8AFA-804D020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D20-1A85-4CF9-B6E7-860F951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C989-2365-4DDE-8122-E67FDB6EE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23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5.xml"/><Relationship Id="rId20" Type="http://schemas.openxmlformats.org/officeDocument/2006/relationships/slide" Target="slide23.xml"/><Relationship Id="rId21" Type="http://schemas.openxmlformats.org/officeDocument/2006/relationships/slide" Target="slide39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5.xml"/><Relationship Id="rId32" Type="http://schemas.openxmlformats.org/officeDocument/2006/relationships/slide" Target="slide35.xml"/><Relationship Id="rId33" Type="http://schemas.openxmlformats.org/officeDocument/2006/relationships/slide" Target="slide37.xml"/><Relationship Id="rId34" Type="http://schemas.openxmlformats.org/officeDocument/2006/relationships/slide" Target="slide37.xml"/><Relationship Id="rId35" Type="http://schemas.openxmlformats.org/officeDocument/2006/relationships/slide" Target="slide43.xml"/><Relationship Id="rId36" Type="http://schemas.openxmlformats.org/officeDocument/2006/relationships/slide" Target="slide39.xml"/><Relationship Id="rId37" Type="http://schemas.openxmlformats.org/officeDocument/2006/relationships/slide" Target="slide41.xml"/><Relationship Id="rId38" Type="http://schemas.openxmlformats.org/officeDocument/2006/relationships/slide" Target="slide15.xml"/><Relationship Id="rId39" Type="http://schemas.openxmlformats.org/officeDocument/2006/relationships/slide" Target="slide45.xml"/><Relationship Id="rId40" Type="http://schemas.openxmlformats.org/officeDocument/2006/relationships/slide" Target="slide45.xml"/><Relationship Id="rId41" Type="http://schemas.openxmlformats.org/officeDocument/2006/relationships/slide" Target="slide49.xml"/><Relationship Id="rId42" Type="http://schemas.openxmlformats.org/officeDocument/2006/relationships/slide" Target="slide25.xml"/><Relationship Id="rId43" Type="http://schemas.openxmlformats.org/officeDocument/2006/relationships/slide" Target="slide3.xml"/><Relationship Id="rId4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ce and Mathematics Jeopar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14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Natur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he evidence for a claim can be detected with a human sense, even if the thing itself is not detectable, the claim DOES still meet this criterion for sc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bserv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number of significant figures in 25,809.0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ni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are the two ways to determine if a measurement is preci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similar repeated values and high significant figur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olution to 3.08 g x 6.1 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19 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80.507 m / 0.009 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373392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9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0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41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2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4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c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cient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9000 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450.1 g + 8.09 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458.2 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measurement is very close to the value in reality, it is called highly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ccur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equation for calculating percent err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100 x ((observed - actual)/actual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-.034% and 35.08%, this is the one that is more accur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-.034%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percent error when the observed measurement is 8.97 g and the actual measurement is 9.45 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ix characteristics of science are summarized in this acrony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-5.08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percent error when the observed measurement is 45.7 m and the actual measurement is 34.760809 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1.4%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7.8 x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4.3 x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this is the larger numb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4.3 x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3.408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written normal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40,8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2.5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x  1.3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.3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4.3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/  2.8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LOR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1.5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3.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4.2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3.1 x 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metric unit for surface area, and its symb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quare meter (m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what grams (g) is the metric unit f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as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number of meters (m) in a kilometer (km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100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is the prefix for something that is 100 times smaller than the base un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y, comparative literature, sports psychology, and dance are examples of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enti-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are 3.281 feet (ft) in a meter (m).  There are 1609.344 m in a mile (mi)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many feet are in 6.000000 mi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1,680 f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non-sci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field or proposal that does not meet all 6 characteristics of science, but nevertheless claims to be a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seudoscie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laim that involves the spiritual, religious, metaphysical, supernatural, or strictly human creations like culture, does not meet this characteristic of sci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ebecca Stang</cp:lastModifiedBy>
  <dcterms:modified xsi:type="dcterms:W3CDTF">2008-09-21T15:26:25Z</dcterms:modified>
  <cp:revision>112</cp:revision>
  <dc:subject/>
  <dc:title>No Slide Title</dc:title>
</cp:coreProperties>
</file>